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328-4909-4CF9-A1F1-89EB2A24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71E-A416-4729-A67A-9D518D1C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744-D9C4-4200-9923-D5BC411D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234-4E68-41E7-99BC-1CDD7506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E787-C596-4B06-9520-7724CAFD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215-5F95-4528-8EC9-4D891ABE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71BC-49BC-4FA6-8931-98048CE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49BD-86CC-428A-AEA6-DA239C8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D2A-1A5D-486F-9B17-150DF5C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5CE6-5F64-44E9-BCBC-3818619E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4D2-54CD-4793-9499-4F42D7B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9C8-E9AF-40BB-AB43-8304186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18D-4215-4ECE-B554-71A4AB8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84F-A271-44B0-BFD7-3190BBD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00B-B182-439D-8A4E-25FCAA0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2AF8-01D0-41E2-B57A-9E75C2D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4D0-6386-428E-B55B-AE2EEC7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433-C82F-4A08-8A29-2B29B77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77C-B1B8-4E5F-99D8-F2DEBAA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231-B5D6-4840-B604-025F1E3D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440-314B-4383-957F-827EDE1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15B-5C5A-477E-A375-C35034F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CF9-301B-40A8-8626-A116DB5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719-B9DA-48E0-96A0-A6A4B557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DF7-5824-45BE-B621-3C5D718AD7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DE2-EBAE-4C8F-ABE4-7D1D4F11B0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imosa.pntic.mec.es/ajuan3/lengua/usosdese.htm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El verb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xpresa los "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dent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" que le ocurren al sujeto. Es la forma que tenemos de contemplar la realidad con respecto al tiempo. De otra forma, podríamos decir que el verbo expres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ones, procesos o esta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respecto a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tuándolos siempre e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d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españo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 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indica el término de la 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jugar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n jug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stas hor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los chic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brán jug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Todas l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ormas compuest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más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térito Indefini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en aspecto perfe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specto im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Se indic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la acción sin su términ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no quiere decir que la acción se esté produciendo , sino que no se expresa si esa acción está acabada, se está produciendo, se ha producido o se va a producir en un futu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juega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jugaba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chicos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jugarán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l fútbol en el pati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l mod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El modo expresa 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intención del hablante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al comunicar una ac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odo indicativo.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puede contemplar la acción de una form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objetiva, real,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ensando que el hecho ha sucedido, sucede o sucederá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etrás de los cristales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lueve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Hoy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ha llovid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ísimo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Mañan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loverá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mucho sobre la zona centr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odo subjuntiv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uede expresar su subjetividad sobre la acción del 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 este caso, se expresan las accion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mo posibles, dudosas, irre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, el subjuntivo depende en muchos casos de que el verbo esté o no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ubordin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ot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Ojalá llueva hoy!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¡Ojalá llueva mañana!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i nevara mañana, no vendría al instituto. </a:t>
            </a:r>
            <a:br>
              <a:rPr sz="2800"/>
            </a:b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Modo imperativo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     Posee unas peculiaridades que lo distinguen de los otros modos: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Sólo posee una persona, la segund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 En singular y plural )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No se puede utilizar con negación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Hay que recurrir a otras formas verbales (la forma subjuntiva) para expresar el mandato negativo en español.Ej: Cerrad la ventana /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* No cerrad la ventana/ 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No cerréi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la ventan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Sólo cumple la función conativa o apelativa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 la lengua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 Por todo ello, es un elemento verbal extraño, de una eficacia expresiva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La voz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La voz expresa la forma que tiene el sujeto de participar en la acción del verbo. En español hay dos voces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 bien la pasiva se usa muy poco en su forma pu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oz act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la más usual.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l sujeto realiza la acción del verb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cimos que es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g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 la acción verb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cartero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treg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a correspond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José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a Juanita con todo su coraz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oz pas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realiza, sino que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recibe la acción expresada por el 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Por ello,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ci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 el agente es otro y puede estar o no expres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entreg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or el carte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Juanit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pasi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ay varias formas de expresar la voz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castella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suele llamar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iva p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 la construcción sintáctica que se forma con el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erbo en voz 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uxiliar ser + el participio correspondiente)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co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a expresión d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omplemento Ag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Ag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es entregada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 por el cartero.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egunda de pas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aquella construcción que presenta 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 en voz pasiv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in la expresión del CAg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J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uanita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 amad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con pas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s la parte variable de la oración: pos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sinenci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morfemas de voz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 funciona como predicado de una oración o de una pro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 la construcción más utilizada ( y la que crea mayores problem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la llamad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iva refleja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 se forma con u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 en forma activa más </a:t>
            </a:r>
            <a:r>
              <a:rPr b="0" lang="es-E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rticula se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e llama pasiva porque su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 sigue siendo pasivo; y refleja porqu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a partícula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tá emparentada originariamente c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l pronombre reflexivo s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 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Se entrega la correspondencia =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orrespondencia es entre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, el gerundio y el particip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•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stan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dverb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relaciona co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dje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finitivo y 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ndican aspec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mientras que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indica aspec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se nombran con su infinitivo y, según la terminación de éste, se agrupan en tres conjun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Tipos de verbos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pul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: Unen sujeto y atributo -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er, Es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dica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Son núcleos del pred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ransitivos, Intransi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onomi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fe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pulativos o atribu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 poseen un significado semántico pl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ecesitan de u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tribut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para signifi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verb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irve de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ópu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o unión entre el sujeto y el atribu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radic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n el verbo, sino en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tribu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atributivos puros son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ser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est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emás pueden añadirse otros, aunque su significado léxico es algo mayor: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recer, resultar, volverse, hallarse, llegar a ser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, etc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47560" y="167652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Verbos predicativos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aquellos que poseen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gnificado pleno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redican, dicen algo del suj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orrer, nadar, tener, comer, dormir, vivir, etc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verbos predicativos pueden dividirse e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Transi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 poseen un significado compl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sino que éste es susceptible de ser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ompletado por un complemento dir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C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gnificado "pasa" del verbo al complemento directo. 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tener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n embargo, esta clasificación debe atender más a criterios sintácticos que significativ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lgunos verbos transitivos necesitan obligatoriamente un C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tros pueden o no necesitarlo según cuál sea el interés del hablante en explicitarlo o 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:- ¿ Qué haces? / - Estudio /-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udio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la transitividad de los verb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ólo la segunda respuesta presenta una estructura transitiva, mientras la primera es intran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verbales pueden ser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form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xpresan l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cción, pasión o est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l sujeto,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, el tiempo, el aspecto, el modo y la vo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848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Intransitivos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oseen un significado compl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no necesitan la presencia del complemento directo. 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dormir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 De igual forma que los anteriores, el hablante puede tener la necesidad de explicitar un CD, incluso en estos casos: Ej: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ormía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plácidamente/ Durmió el sueño de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primera oración es una estructura predicativa intransitiva, la seguna sería tran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onomi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e conjugan necesariamente con u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ronombre person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levantarse, tutearse..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on defecti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ólo se conjugan e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lgunos tiempos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y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ersonas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(acaecer, acontece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..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uniperson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los verbos que sólo se conjugan e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tercera persona del singular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(llueve, nie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verb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n sintagmas que expresan características de la acción verba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mposibles de exponer con las formas de la conjug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án constituidas por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 personal de un verbo que aporta la significación principal, unidos o no por un nex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y pueden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infini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cabar de, deber de, echar(se) a, venir...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gerund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andar, continuar, estar, llevar, seguir, venir... + gerund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ífrasis de particip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ir, llevar, tener...+ particip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erífrasis so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informan de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ctitud del habla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n 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spectu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cuando informan sobre el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desarrollo de la acción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erífrasi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mod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tiene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iferentes significad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erfec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terminación o no de la ac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cabar de +  infinitivo, dejar de + participio, llegar a + infinitivo y tener + particip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Inco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e refiere al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principi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e la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acción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charse a + infinitivo, empezar a + infinitivo, estar a punto de + infinitivo, estar para + infinitivo, empezar a + infinitivo e ir a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Iterativo y frecuentat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expresa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repetición y frecuencia de la acción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oler + infinitivo y volver + infini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Verdana"/>
              </a:rPr>
              <a:t>Durativo y progresiv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indica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duración y progresión de la acción: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ndar + gerundio, continuar + gerundio, estar + gerundio, llevar + gerundio y seguir + gerund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atte Bo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ropone agrupar los tiempos en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odo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 maner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distint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 la habitual. He aquí su clasificación de modos y tiem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14400" y="0"/>
          <a:ext cx="7696080" cy="6532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O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pers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initivo – gerundio –Participio pas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turo de Indicativo – Condici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nte de Indicativo – Pretérito indefinido de indic. – Pretérito imperfecto de indic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066680" y="1981080"/>
          <a:ext cx="7543800" cy="46278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O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jun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ente de subjuntivo – imperfecto de subjuntivo – Futuro de subjun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er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era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si el sujeto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hab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primera persona)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scuch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segunda persona) o si e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lguien o algo de quien se habl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tercera persona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núme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dica si 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uje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uno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singula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 o son varios (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lural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os distintos tiempos están sólo en parte relacionados con el tiempo cronológic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o se debe creer que cada tiempo corresponde a un momento del tiempo cronológico: hay una serie de otros factores que influyen en la elección de un tiemp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-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ctitud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 quien habla con respecto a lo que d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mo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or el que dice lo que d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intenciones expresivas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u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ctitud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respecto del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interlocutor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y de la </a:t>
            </a: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situació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tiemp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     El verbo es la parte de la oración que más expresa el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xisten, lingüísticamente, tres tiempos: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retérito o pasado, presente y futuro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estudiar estos tres tiempos verbales, debemos considerar que el concepto  de tiempo,   es algo absolutamente relativo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pende de la forma en que los hablantes viven esa idea vaga que entendemos por tiemp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pasad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, en realidad, el único tiempo que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exis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l único del que podemos hablar con seguridad, puesto que ya ha sido vivid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 hecho, hay muchos más tiempos verbales referidos al pasado que al presente o al futuro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resent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no existe como tal tiempo. En cuanto no se ha cumplido es futuro; en cuanto se cumple pasa a ser pretér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Por ello, hay que tener en cuenta que se vive de forma distinta según los hablantes. El presente lingüístico puede tener una duración momentánea o puede abarcar todo nuestro sig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hora hace mucho frío. Hoy hace mucho frío. Estamos ahora a plena luz del d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amos en el sigloXX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futu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el tiempo más incier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 ello también es el menos utilizado. En muchos casos se sustituye por otros tiempos que expresan mayor cert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spec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xpres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tiempo interno de la acción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verbo español, independientemente de que sea pasado, presente o futuro, puede expresar la forma en que se desarrolla la acción verbal,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atendiendo a su termin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decir, que además de decirnos en el tiempo que está, n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indica si la acción ha terminado o n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0:59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